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EFC0-4423-4DA0-BF60-A524F288EDF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ners Ferry Slide, 199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id-October of 1998, a section of hillside north of Bonners Ferry, Idaho, moved in response to gravity, wiping out a portion of HW95, the railway and powerlines. See the damage for yourself in the following photo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ners Ferry Slide,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d-October of 1998, a section of hillside north of Bonners Ferry, Idaho, moved in response to gravity, wiping out a portion of HW95, the railway and powerlines. See the damage for yourself in the following photo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from the No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from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your eval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ype of mass wasting occurred 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 and defend your evaluation of this ev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 it out and hand it in for sco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sired response is on the la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your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ype of mass wasting occurred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and defend your evaluation of this ev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t out and hand it in for sco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ired response is on the las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nners Ferry slide was a major  mudflow (as evidenced in slides 2-8) followed by slump (slides 9-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nners Ferry slide was a major  mudflow (as evidenced in slides 2-8) followed by slump (slides 9-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erial View of the Slid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erial View of the Slid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from the E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from the E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lroad rails and hanging 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 rails and hanging t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ls and hanging tie from railro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s and hanging tie from railr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from the Sou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from the S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90D5-A904-4731-B41B-EE4270571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65DC-4E5E-4E44-B159-12BD2F73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F1A3-7E4F-4531-83AF-B8F019494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703A-DE91-4FE7-8040-267909174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0366-973F-4C25-B369-B3ED7161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C6C2-3DE6-4295-97AB-AFE399F0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DF13-6806-4335-8E3F-68B18AD7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15E0-3C5B-4401-AFE3-EA9A6703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F90C-1C46-4D2C-966D-B4FA1AD6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50C3-8A34-4FE4-A1A3-A32C8208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ACF5-3C14-402B-A347-3F11F990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EDDA-47FD-4A1D-B304-3C85CC4D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76"/>
            </a:gs>
            <a:gs pos="50000">
              <a:srgbClr val="99ccff"/>
            </a:gs>
            <a:gs pos="100000">
              <a:srgbClr val="47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D0FD-49A9-44C7-A14C-33EDC8831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onners Ferry Slide, 19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8960" y="1828800"/>
            <a:ext cx="64767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 mid-October of 1998, a section of hillside north of Bonners Ferry, Idaho, moved in response to gravity, wiping out a portion of HW95, the railway and powerlines. See the damage for yourself in the following photo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PIC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609480" y="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ooking from the N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e your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type of mass wasting occurred 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and defend your evaluation of this ev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it out and hand it in for sco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sired response is on the last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Bonners Ferry slide was a major  mudflow (as evidenced in slides 2-8) followed by slump (slides 9-1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PIC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2057400" y="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erial View of the Slid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PIC5"/>
          <p:cNvPicPr/>
          <p:nvPr/>
        </p:nvPicPr>
        <p:blipFill>
          <a:blip r:embed="rId1"/>
          <a:stretch/>
        </p:blipFill>
        <p:spPr>
          <a:xfrm>
            <a:off x="-762120" y="0"/>
            <a:ext cx="10515600" cy="7086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2666880" y="457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oking from the 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PIC17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IC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PIC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457200" y="2438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ilroad rails and hanging 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PIC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533520" y="23623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ils and hanging tie from railr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PIC21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609480" y="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oking from the S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1T17:41:19Z</dcterms:created>
  <dc:creator>Greg Cossette</dc:creator>
  <dc:description/>
  <dc:language>en-US</dc:language>
  <cp:lastModifiedBy>RomaK</cp:lastModifiedBy>
  <dcterms:modified xsi:type="dcterms:W3CDTF">2015-09-04T09:40:48Z</dcterms:modified>
  <cp:revision>11</cp:revision>
  <dc:subject/>
  <dc:title>Bonners Ferry Slide, 1998</dc:title>
</cp:coreProperties>
</file>